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B57C7B-6816-4B26-B32E-791DB40998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EA41D0-9533-4AD4-B45C-FCD11CF98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178E61-09D4-4B0C-83A3-598C6E95D7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032EF4-7E70-4ED6-AEC0-36CB296A3F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EB5B2-438E-431D-88D7-9BCA94362D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372F1-B28E-42B6-8EAD-7808780CA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04489-1BAC-4CA3-9F02-4CCF28168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351B6-6BF9-4F96-BD9C-24EDD5595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26DDF-CCAF-4831-8465-1C9DAB083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82D87-2ABB-4A6F-8759-BFE2AEB16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76FA6-5BDB-4E8A-8858-9C5126018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0AA8A5-2B5A-4823-BB98-06881A502D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2A620-C2FA-4F49-B388-0A3659B1B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619E2-82CE-40B6-9643-33FA4F93C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A3C29-DFCE-4EE7-87D5-1E69EB21E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6627F-810E-4741-8C20-AB02E0B90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DCE68-5B4E-476B-A285-E6C7B1311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7E4331-ECFA-4FBD-82ED-0F3B3E8228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70472E-8254-4417-B74C-5883A16E6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5C6A29-327D-480D-8E28-48C6E69DD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F18772-7304-4688-BE3F-47CB27215B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AD77DA-4C01-46AE-AE47-2A24BC4E15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317855-93E1-4255-A912-2E823F805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B236E0-EB75-43F8-B0B3-A17FC909618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CF04-BDA7-4D31-A1F2-272D9276D3D6}"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FBC2-8EF3-43DB-B436-6F4236A1B883}"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file:///../../My%20Documents/My%20Videos/DivX%20Movies/morality1951.wmv"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My%20Documents/My%20Videos/DivX%20Movies/am%20culture.wmv"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at is Culture?</a:t>
            </a:r>
            <a:endParaRPr b="0" lang="en-US" sz="4200" spc="-1" strike="noStrike">
              <a:solidFill>
                <a:srgbClr val="ffffcc"/>
              </a:solidFill>
              <a:latin typeface="Tahoma"/>
            </a:endParaRPr>
          </a:p>
        </p:txBody>
      </p:sp>
      <p:sp>
        <p:nvSpPr>
          <p:cNvPr id="126"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PQ: </a:t>
            </a:r>
            <a:r>
              <a:rPr b="0" i="1" lang="en-US" sz="3200" spc="-1" strike="noStrike">
                <a:solidFill>
                  <a:srgbClr val="ffffff"/>
                </a:solidFill>
                <a:latin typeface="Tahoma"/>
              </a:rPr>
              <a:t>Making generalizations</a:t>
            </a:r>
            <a:r>
              <a:rPr b="0" lang="en-US" sz="3200" spc="-1" strike="noStrike">
                <a:solidFill>
                  <a:srgbClr val="ffffff"/>
                </a:solidFill>
                <a:latin typeface="Tahoma"/>
              </a:rPr>
              <a:t> - What is culture? Create your working definition of culture AND list 5-7 characteristics of American culture.</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justification for why you chose those characteristics.</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finished, get into groups of 3 and discuss your lists. Create a group list of 10 ESSENTIAL characteristics of American cultu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6">
                                            <p:txEl>
                                              <p:pRg st="2" end="2"/>
                                            </p:txEl>
                                          </p:spTgt>
                                        </p:tgtEl>
                                        <p:attrNameLst>
                                          <p:attrName>style.visibility</p:attrName>
                                        </p:attrNameLst>
                                      </p:cBhvr>
                                      <p:to>
                                        <p:strVal val="visible"/>
                                      </p:to>
                                    </p:set>
                                    <p:animEffect filter="box(in)" transition="in">
                                      <p:cBhvr additive="repl">
                                        <p:cTn id="7"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ulture</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cultures change over tim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f25a"/>
                </a:solidFill>
                <a:uFillTx/>
                <a:latin typeface="Tahoma"/>
                <a:hlinkClick r:id="rId1"/>
              </a:rPr>
              <a:t>From the 1950s to No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pac Shakur &amp; Culture</a:t>
            </a:r>
            <a:endParaRPr b="0" lang="en-US" sz="4200" spc="-1" strike="noStrike">
              <a:solidFill>
                <a:srgbClr val="ffffcc"/>
              </a:solidFill>
              <a:latin typeface="Tahoma"/>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ely read the two Tupac poems provided. Which one (in your opinion) is more indicative of American culture. Wh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ulture - Continued</a:t>
            </a: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e is a major factor in creating our identit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ty – our self-concept and how we perceive how others view 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your cultural backgroun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a:t>
            </a:r>
            <a:r>
              <a:rPr b="1" lang="en-US" sz="3200" spc="-1" strike="noStrike">
                <a:solidFill>
                  <a:srgbClr val="ffffff"/>
                </a:solidFill>
                <a:latin typeface="Tahoma"/>
              </a:rPr>
              <a:t>melting pot</a:t>
            </a:r>
            <a:r>
              <a:rPr b="0" lang="en-US" sz="3200" spc="-1" strike="noStrike">
                <a:solidFill>
                  <a:srgbClr val="ffffff"/>
                </a:solidFill>
                <a:latin typeface="Tahoma"/>
              </a:rPr>
              <a:t>”? Have we achieved this idea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ulture</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terial culture</a:t>
            </a:r>
            <a:r>
              <a:rPr b="0" lang="en-US" sz="3200" spc="-1" strike="noStrike">
                <a:solidFill>
                  <a:srgbClr val="ffffff"/>
                </a:solidFill>
                <a:latin typeface="Times New Roman"/>
              </a:rPr>
              <a:t>  -  physical or technological aspects of our daily lives, incl food, houses, factories, and raw materials. </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onmaterial culture</a:t>
            </a:r>
            <a:r>
              <a:rPr b="0" lang="en-US" sz="3200" spc="-1" strike="noStrike">
                <a:solidFill>
                  <a:srgbClr val="ffffff"/>
                </a:solidFill>
                <a:latin typeface="Times New Roman"/>
              </a:rPr>
              <a:t>  -  ways of using material objects and customs, beliefs, philosophies, governments, and patterns of communication.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mponents of Culture</a:t>
            </a: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1. Symbols </a:t>
            </a:r>
            <a:r>
              <a:rPr b="0" lang="en-US" sz="2400" spc="-1" strike="noStrike">
                <a:solidFill>
                  <a:srgbClr val="ffffff"/>
                </a:solidFill>
                <a:latin typeface="Tahoma"/>
              </a:rPr>
              <a:t>are cultural representations gestures, pictures that stand for something else.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2. Language</a:t>
            </a:r>
            <a:r>
              <a:rPr b="0" lang="en-US" sz="2400" spc="-1" strike="noStrike">
                <a:solidFill>
                  <a:srgbClr val="ffffff"/>
                </a:solidFill>
                <a:latin typeface="Tahoma"/>
              </a:rPr>
              <a:t> is an abstract system of word meanings and symbols for all aspects of culture. Language includes speech, written characters, numerals, symbols, and gestures of nonverbal communication.</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3. norms (mores and folkway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al and informal norm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mponents of Culture</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4. Values</a:t>
            </a:r>
            <a:r>
              <a:rPr b="0" lang="en-US" sz="2400" spc="-1" strike="noStrike">
                <a:solidFill>
                  <a:srgbClr val="ffffff"/>
                </a:solidFill>
                <a:latin typeface="Times New Roman"/>
              </a:rPr>
              <a:t> are collective conceptions of what is considered good, desirable, and proper or bad, undesirable, and improper in a culture. Values influence people's behavior and serve as a criterion for evaluating the actions of others. There is often a direct relationship between the values, norms, and sanctions of a cultur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5. Sanctions</a:t>
            </a:r>
            <a:r>
              <a:rPr b="0" lang="en-US" sz="2400" spc="-1" strike="noStrike">
                <a:solidFill>
                  <a:srgbClr val="ffffff"/>
                </a:solidFill>
                <a:latin typeface="Times New Roman"/>
              </a:rPr>
              <a:t> are penalties and rewards for conduct concerning a social norm. The most cherished values of a culture will be most heavily sanctioned, whereas matters regarded as less critical will carry light and informal sanction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ultural Variations</a:t>
            </a: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800" spc="-1" strike="noStrike">
                <a:solidFill>
                  <a:srgbClr val="ffffff"/>
                </a:solidFill>
                <a:latin typeface="Tahoma"/>
              </a:rPr>
              <a:t>1. subcultures,</a:t>
            </a:r>
            <a:r>
              <a:rPr b="0" lang="en" sz="2800" spc="-1" strike="noStrike">
                <a:solidFill>
                  <a:srgbClr val="ffffff"/>
                </a:solidFill>
                <a:latin typeface="Tahoma"/>
              </a:rPr>
              <a:t> or groups of people with distinct sets of behavior and beliefs that differentiate them from a larger culture of which they are a part.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a:t>
            </a:r>
            <a:r>
              <a:rPr b="1" i="1" lang="en-US" sz="2800" spc="-1" strike="noStrike">
                <a:solidFill>
                  <a:srgbClr val="ffffff"/>
                </a:solidFill>
                <a:latin typeface="Tahoma"/>
              </a:rPr>
              <a:t>Culture shock</a:t>
            </a:r>
            <a:r>
              <a:rPr b="0" lang="en-US" sz="2800" spc="-1" strike="noStrike">
                <a:solidFill>
                  <a:srgbClr val="ffffff"/>
                </a:solidFill>
                <a:latin typeface="Tahoma"/>
              </a:rPr>
              <a:t> can be set off either by the physical items of an unfamiliar culture or by the ways that people act. Yet we can experience culture shock even in our own society.</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ultural Variations</a:t>
            </a:r>
            <a:endParaRPr b="0" lang="en-US" sz="4200" spc="-1" strike="noStrike">
              <a:solidFill>
                <a:srgbClr val="ffffcc"/>
              </a:solidFill>
              <a:latin typeface="Tahoma"/>
            </a:endParaRPr>
          </a:p>
        </p:txBody>
      </p:sp>
      <p:sp>
        <p:nvSpPr>
          <p:cNvPr id="140"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fontScale="98000"/>
          </a:bodyPr>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3. Ethnocentrism</a:t>
            </a:r>
            <a:r>
              <a:rPr b="1" lang="en-US" sz="2800" spc="-1" strike="noStrike">
                <a:solidFill>
                  <a:srgbClr val="ffffff"/>
                </a:solidFill>
                <a:latin typeface="Tahoma"/>
              </a:rPr>
              <a:t> </a:t>
            </a:r>
            <a:r>
              <a:rPr b="0" lang="en-US" sz="2800" spc="-1" strike="noStrike">
                <a:solidFill>
                  <a:srgbClr val="ffffff"/>
                </a:solidFill>
                <a:latin typeface="Tahoma"/>
              </a:rPr>
              <a:t>refers to the tendency to assume that one's culture and way of life are superior to all others. The ethnocentric person sees his or her own group as the center or defining point of culture and views all other cultures as deviations from what is "normal.“</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4. Counterculture</a:t>
            </a:r>
            <a:r>
              <a:rPr b="0" lang="en-US" sz="2800" spc="-1" strike="noStrike">
                <a:solidFill>
                  <a:srgbClr val="ffffff"/>
                </a:solidFill>
                <a:latin typeface="Tahoma"/>
              </a:rPr>
              <a:t> is a group that rejects values, norms, and practices of the large society and replaces them with a new set of cultural pattern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merican Culture</a:t>
            </a: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tch the </a:t>
            </a:r>
            <a:r>
              <a:rPr b="0" lang="en-US" sz="3200" spc="-1" strike="noStrike" u="sng">
                <a:solidFill>
                  <a:srgbClr val="ebf25a"/>
                </a:solidFill>
                <a:uFillTx/>
                <a:latin typeface="Tahoma"/>
                <a:hlinkClick r:id="rId1"/>
              </a:rPr>
              <a:t>clip montage </a:t>
            </a:r>
            <a:r>
              <a:rPr b="0" lang="en-US" sz="3200" spc="-1" strike="noStrike" u="sng">
                <a:solidFill>
                  <a:srgbClr val="ffffff"/>
                </a:solidFill>
                <a:uFillTx/>
                <a:latin typeface="Tahoma"/>
              </a:rPr>
              <a:t>&amp; answer the following question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st examples of material culture, nonmaterial culture, norms, values, subcultures &amp; countercultures</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 examples of when you had ethnocentric judgments towards someone/ something.</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 examples of when you experienced culture shock</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05:03:35Z</dcterms:created>
  <dc:creator>Nikki Blakeney</dc:creator>
  <dc:description/>
  <dc:language>en-US</dc:language>
  <cp:lastModifiedBy>Admin</cp:lastModifiedBy>
  <dcterms:modified xsi:type="dcterms:W3CDTF">2008-08-21T15:34:23Z</dcterms:modified>
  <cp:revision>7</cp:revision>
  <dc:subject/>
  <dc:title>What is Culture?</dc:title>
</cp:coreProperties>
</file>